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44DC-F168-44A8-9859-7BFD50657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634C-4129-46E0-B4EE-78946217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2BB7-6377-4402-829B-E62B0B02D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B5BC-A6ED-4099-9DDF-974C75AE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884C-1AFF-481A-A6C7-1082B3FB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8D53-640F-44A6-815E-9FC0992C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807D-994D-46CE-92AD-5A4F6CCE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7523-65B0-48F5-B90D-251922FB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0A5E-F3E2-4495-8BB6-406F7B92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FBAF-004D-4DB2-9277-0BD367BF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D4F1-C3BC-426E-AA73-C5BC7BF2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A936-0A22-4E69-8641-7AE316FB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894E-BFE1-4AE2-A401-2DF097B7AEF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979280" y="2276280"/>
            <a:ext cx="45356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6e5552"/>
                </a:solidFill>
                <a:latin typeface="Myriad Pro"/>
              </a:rPr>
              <a:t>www.FreepptBackgrounds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6"/>
          <p:cNvSpPr/>
          <p:nvPr/>
        </p:nvSpPr>
        <p:spPr>
          <a:xfrm>
            <a:off x="1835280" y="1557360"/>
            <a:ext cx="60483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595959"/>
                </a:solidFill>
                <a:latin typeface="Myriad Pro"/>
              </a:rPr>
              <a:t>Free PPT Backgr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34765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5041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4716360" y="4437000"/>
            <a:ext cx="40309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95280" y="119664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2987640" y="2852640"/>
            <a:ext cx="5040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  <a:ea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  <a:ea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hiko</cp:lastModifiedBy>
  <dcterms:modified xsi:type="dcterms:W3CDTF">2013-01-30T20:22:47Z</dcterms:modified>
  <cp:revision>755</cp:revision>
  <dc:subject/>
  <dc:title>Diapositiva 1</dc:title>
</cp:coreProperties>
</file>